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F914-0EA8-4ECE-BC5A-1D7CEEC6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925D-77EC-49DB-B5DC-3971A172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D720-09E6-46A4-A718-40A370AA4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E212-9299-48A3-878A-379F64BB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BBA-52FC-49A4-BA42-9D7C762A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22ED-2F0D-40AB-9FA6-65998FC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592-1AD3-4857-87B6-03F6DDDA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9F1C-D07C-4557-9F3D-3B6F61C3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463-3241-4F6D-BA79-6FCCC473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BCD-3B3B-463C-8D02-F73DC2BA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2ED-9B20-4FD5-B724-4465B2C2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685-2D87-47C4-84C4-EFB02A98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4538-033E-468C-A40F-FC8743208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788000" y="404640"/>
            <a:ext cx="421164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hotoswitching of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Nitroprusside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Rusan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partment of Atomic Physics, University of Sofia, Bulg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v. Stank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SRF, Grenoble, 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. Paulsen, A. X. Trautw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iversity of Lübeck, Ger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19640" y="3571920"/>
            <a:ext cx="3670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over page of the journal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aser und Optoelektroni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ith visible information written in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ingle crystal cut of sodium nitroprusside Na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[Fe(CN)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]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H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O, as a congratulation to its 25</a:t>
            </a:r>
            <a:r>
              <a:rPr b="0" lang="en-GB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“birthday” anniversary. Through a model the crystal was first irradiated with light of wavelength 457.9 nm and then for the second time with light of wavelength 1064 nm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cted population: GS 70 %, MSI 15% and MSII 15 %. Laser und Optoelektronik,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6) 18 (199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-15840" y="0"/>
            <a:ext cx="4947840" cy="6884640"/>
            <a:chOff x="-15840" y="0"/>
            <a:chExt cx="4947840" cy="688464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4947840" cy="68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V="1">
              <a:off x="2139840" y="2457000"/>
              <a:ext cx="165600" cy="5050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65680" y="1879200"/>
              <a:ext cx="253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irradiated part of the crys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populated with SI and S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39840" y="3732480"/>
              <a:ext cx="186840" cy="18504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59080" y="3831120"/>
              <a:ext cx="21888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36560" y="3638520"/>
              <a:ext cx="198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rystal in ground st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13:32:47Z</dcterms:created>
  <dc:creator>Ventzislav Rusanov</dc:creator>
  <dc:description/>
  <dc:language>en-US</dc:language>
  <cp:lastModifiedBy>Ventzislav Rusanov</cp:lastModifiedBy>
  <dcterms:modified xsi:type="dcterms:W3CDTF">2013-11-24T18:05:49Z</dcterms:modified>
  <cp:revision>91</cp:revision>
  <dc:subject/>
  <dc:title>Заявление за разкриване на процедура по защита на дисертация за получаване на научната степен Доктор на физическите науки</dc:title>
</cp:coreProperties>
</file>