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83A-1782-4E82-A0E1-F0F44506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4BA-33F9-46D0-A059-B6679615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2C1B-1EEE-46F5-896D-6D1F695D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F7FE-82AF-44B0-917E-C1D2CBA5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9C6-7761-470A-883D-013119C8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DE2-655B-42F5-AC74-535BDC8D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1B38-7901-4C6E-A1E3-FCB21938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852-112E-4ECE-9079-BB1740EB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6777-00EA-4C2A-BD28-731729BD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5B4-A655-4364-A84C-2B6BCD3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CFC9-F3C8-4461-9709-91BCF606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650D-C44B-4093-907D-FEF857F5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887-2CDA-4A31-B2C2-FE986F5E0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bg-BG" sz="4400" spc="-1" strike="noStrike">
                <a:solidFill>
                  <a:srgbClr val="000000"/>
                </a:solidFill>
                <a:latin typeface="Times New Roman"/>
              </a:rPr>
              <a:t>Лаборатория “Дозиметрия и лъчезащита” </a:t>
            </a: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228600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ъста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фзн Добромир Пресия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-р Красимир Мит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. ас. д-р Страхил Георги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ж. Петко Узу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ант Георги Герг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. докторант Димитър Димит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следователската група участват също гл. ас. д-р Ивелина Димитрова и физ. Татяна Бошк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</a:rPr>
              <a:t>Исторически сведения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а: 1963 г. от проф. дфзн Иван Узуно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ира обучението по Дозиметрия и лъчезащита, Радиоактивност в околната среда, Метрология на йонизиращи лъчения, Радиационна биофизика, Монте-Карло моделиране на транспорт на йонизиращи лъчен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жда активна научна дейност в горните направл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</a:rPr>
              <a:t>Резултат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ени 2 дисертации за “доктор на науките” и 5 за “доктор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ъководе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50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пломни работ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ува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200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учни статии, от които около 100 в индексирани международни изд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еляза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500</a:t>
            </a: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зависими цитир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национални и международни проекти. Сътрудници на лабораторията са привличани като експерти от Световната здравна организация, Австрийското правителство и д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 проблематика, в която групата е получила най-широка международна известност и признание:</a:t>
            </a:r>
            <a:r>
              <a:rPr b="0" lang="bg-BG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ът РАДОН (всички аспект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легите, които се интересуват какви са нивата на радон в тяхното жилище могат да го научат, като предоставят за анализ някое от съхраняваните у тях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D/DVD</a:t>
            </a:r>
            <a:r>
              <a:rPr b="1" lang="bg-BG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09:04:04Z</dcterms:created>
  <dc:creator>Dobromir</dc:creator>
  <dc:description/>
  <dc:language>en-US</dc:language>
  <cp:lastModifiedBy>Dobromir</cp:lastModifiedBy>
  <dcterms:modified xsi:type="dcterms:W3CDTF">2013-11-24T09:40:55Z</dcterms:modified>
  <cp:revision>1</cp:revision>
  <dc:subject/>
  <dc:title>PowerPoint Presentation</dc:title>
</cp:coreProperties>
</file>