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510-04CF-4DE4-8A89-81F5753B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DA8-30E8-4C50-A6FA-F4D4302C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809-431F-47C8-97F4-E4CB87CD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994D-DA35-4112-81DE-6E220D3B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4C5-4104-479E-9244-ACF09FA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E42-8F22-432F-8290-6D26B423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1FD0-7EC7-4F06-A859-0108029D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EE31-4A55-4444-A0BB-9CDA0997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736-CA91-4B3C-875E-A4F22490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C0A-50DD-4B80-876A-3C8EBCCD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30B-4502-461F-865C-0E34925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7AAC-B9DC-4293-9E52-9287CFC4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5D56-E05A-4A24-A10D-2E6B28A67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468360" y="-27000"/>
            <a:ext cx="9648720" cy="6927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372360" y="333360"/>
            <a:ext cx="2952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tudy of Deep Sea Fe-Mn Sediments and the Possibility to use these Formations as Paleoclimatic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K. Chakar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American College of Sof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V. Rus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University of Sof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. X. Trautw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Universi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  <a:ea typeface="宋体"/>
              </a:rPr>
              <a:t>tät zu Lüb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3:32:47Z</dcterms:created>
  <dc:creator>Ventzislav Rusanov</dc:creator>
  <dc:description/>
  <dc:language>en-US</dc:language>
  <cp:lastModifiedBy>Ventzislav Rusanov</cp:lastModifiedBy>
  <dcterms:modified xsi:type="dcterms:W3CDTF">2013-11-24T18:07:05Z</dcterms:modified>
  <cp:revision>91</cp:revision>
  <dc:subject/>
  <dc:title>Заявление за разкриване на процедура по защита на дисертация за получаване на научната степен Доктор на физическите науки</dc:title>
</cp:coreProperties>
</file>