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943-69A3-49E4-B379-A037A08E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332-AC57-4D45-8998-34C8F034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548-2CAA-4D14-BED9-BEF7FA65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844-6E0A-478D-9240-32E65281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861-222E-452F-A8D5-96117916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9C5-DB23-4EE0-94FB-DBC02537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9AC-5902-416E-B362-8223DFCA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2D8B-3A89-4774-B31D-976EF3D0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8A13-FE41-408C-A910-B6987AEC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C61-661F-45A8-8050-123A6802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6DAB-07F0-4B8B-9BBF-51124189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0F7-C897-415B-B7AA-A2DDBD97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4184-EB9D-4C90-A97B-BD6ED6AFD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62200" y="260280"/>
            <a:ext cx="2233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Fe</a:t>
            </a:r>
            <a:r>
              <a:rPr b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GB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43280" y="1270080"/>
            <a:ext cx="403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ferrites (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[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verted spinels with ferrimagnetic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9080" y="2873520"/>
            <a:ext cx="44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of neighbours and distances (i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Å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between the cations in tetrahedral and octahedral pos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71440" y="3959280"/>
          <a:ext cx="8693280" cy="2705040"/>
        </p:xfrm>
        <a:graphic>
          <a:graphicData uri="http://schemas.openxmlformats.org/drawingml/2006/table">
            <a:tbl>
              <a:tblPr/>
              <a:tblGrid>
                <a:gridCol w="2052720"/>
                <a:gridCol w="1423800"/>
                <a:gridCol w="1739880"/>
                <a:gridCol w="1738440"/>
                <a:gridCol w="17384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e types→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ighbours 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s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si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nearest-neighb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/ 3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/ 3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/ 3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/ 2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ond nearest- neighb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/ 5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/ 5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/ 5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/ 5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ird nearest-neighbo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-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/ 6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/ 6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/ 6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/ 5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" descr=""/>
          <p:cNvPicPr/>
          <p:nvPr/>
        </p:nvPicPr>
        <p:blipFill>
          <a:blip r:embed="rId1"/>
          <a:srcRect l="3445" t="3546" r="6889" b="3546"/>
          <a:stretch/>
        </p:blipFill>
        <p:spPr>
          <a:xfrm>
            <a:off x="396720" y="73080"/>
            <a:ext cx="3905280" cy="3932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3:32:47Z</dcterms:created>
  <dc:creator>Ventzislav Rusanov</dc:creator>
  <dc:description/>
  <dc:language>en-US</dc:language>
  <cp:lastModifiedBy>Ventzislav Rusanov</cp:lastModifiedBy>
  <dcterms:modified xsi:type="dcterms:W3CDTF">2013-11-24T18:06:31Z</dcterms:modified>
  <cp:revision>91</cp:revision>
  <dc:subject/>
  <dc:title>Заявление за разкриване на процедура по защита на дисертация за получаване на научната степен Доктор на физическите науки</dc:title>
</cp:coreProperties>
</file>