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0030-48C3-4FA0-9D81-FAC62719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B568-6E09-4FFD-BBC1-F3BBD3B8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4985-8B3E-43B8-8629-D1CF2174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21D6-4BAB-4A99-89EB-0DD38F4B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6D8-6C3A-4D81-8A11-E08D9605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DE4-EDCB-42A1-A24F-1102F019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46DE-BFB6-4E6A-A95D-0A1D1542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3AED-B080-47BB-B4AA-E23CC1F7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90D5-3678-4446-8F34-EB1F6B93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1B2-AEFF-41E2-A927-045DA3C1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79E8-A9E6-4E82-81FF-F6AEDC7E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0470-A042-4C96-917E-4CFDB89A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17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F0C2-36B0-4455-86E0-B44CEF287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17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1119240" y="0"/>
            <a:ext cx="6848280" cy="6858000"/>
            <a:chOff x="1119240" y="0"/>
            <a:chExt cx="6848280" cy="6858000"/>
          </a:xfrm>
        </p:grpSpPr>
        <p:grpSp>
          <p:nvGrpSpPr>
            <p:cNvPr id="43" name=""/>
            <p:cNvGrpSpPr/>
            <p:nvPr/>
          </p:nvGrpSpPr>
          <p:grpSpPr>
            <a:xfrm>
              <a:off x="1119240" y="0"/>
              <a:ext cx="6848280" cy="6858000"/>
              <a:chOff x="1119240" y="0"/>
              <a:chExt cx="6848280" cy="6858000"/>
            </a:xfrm>
          </p:grpSpPr>
          <p:graphicFrame>
            <p:nvGraphicFramePr>
              <p:cNvPr id="44" name=""/>
              <p:cNvGraphicFramePr/>
              <p:nvPr/>
            </p:nvGraphicFramePr>
            <p:xfrm>
              <a:off x="1119240" y="0"/>
              <a:ext cx="6848280" cy="68580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45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119240" y="0"/>
                        <a:ext cx="6848280" cy="685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6" name=""/>
              <p:cNvGraphicFramePr/>
              <p:nvPr/>
            </p:nvGraphicFramePr>
            <p:xfrm>
              <a:off x="1170000" y="852480"/>
              <a:ext cx="6746760" cy="44118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47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170000" y="852480"/>
                        <a:ext cx="6746760" cy="4411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8" name=""/>
            <p:cNvSpPr txBox="1"/>
            <p:nvPr/>
          </p:nvSpPr>
          <p:spPr>
            <a:xfrm>
              <a:off x="1747800" y="446040"/>
              <a:ext cx="5667480" cy="60166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Button">
                <a:avLst>
                  <a:gd name="adj" fmla="val 13248668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b406"/>
                      </a:gs>
                      <a:gs pos="100000">
                        <a:srgbClr val="ffff00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77353" dir="562478" blurRad="0" rotWithShape="0">
                      <a:srgbClr val="c0c0c0"/>
                    </a:outerShdw>
                  </a:effectLst>
                  <a:latin typeface="Impact"/>
                </a:rPr>
                <a:t>Биофизика</a:t>
              </a:r>
              <a:endParaRPr b="0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b406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77353" dir="562478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b406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77353" dir="562478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ab406"/>
                      </a:gs>
                      <a:gs pos="100000">
                        <a:srgbClr val="ffff00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77353" dir="562478" blurRad="0" rotWithShape="0">
                      <a:srgbClr val="c0c0c0"/>
                    </a:outerShdw>
                  </a:effectLst>
                  <a:latin typeface="Impact"/>
                </a:rPr>
                <a:t>Медицинска физика</a:t>
              </a:r>
              <a:endParaRPr b="0" lang="en-US" sz="2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b406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77353" dir="562478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aphicFrame>
        <p:nvGraphicFramePr>
          <p:cNvPr id="49" name=""/>
          <p:cNvGraphicFramePr/>
          <p:nvPr/>
        </p:nvGraphicFramePr>
        <p:xfrm>
          <a:off x="1244520" y="387360"/>
          <a:ext cx="6216840" cy="621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44520" y="387360"/>
                    <a:ext cx="621684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17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03280" y="3716280"/>
            <a:ext cx="61214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гл. ас. д-р Валери Коч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гл. ас. д-р Елица Пав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д-р Лилия Владимир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4680000" cy="2347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676760" y="692280"/>
            <a:ext cx="4467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Impact"/>
              </a:rPr>
              <a:t>Кои и колко  сме сега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17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cc00"/>
                </a:solidFill>
                <a:latin typeface="Arial"/>
              </a:rPr>
              <a:t>Биомаркери на окислителния стр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cc00"/>
                </a:solidFill>
                <a:latin typeface="Arial"/>
              </a:rPr>
              <a:t>Патология на биомембран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cc00"/>
                </a:solidFill>
                <a:latin typeface="Arial"/>
              </a:rPr>
              <a:t>Биомембрани и биосенз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cc00"/>
                </a:solidFill>
                <a:latin typeface="Arial"/>
              </a:rPr>
              <a:t>Липид-импрегнираните ултрафилтърни мембрани нова моделна мембранна система. Електрохимични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cc00"/>
                </a:solidFill>
                <a:latin typeface="Arial"/>
              </a:rPr>
              <a:t>Изследване на кинетиката на адсорбция на белтъчни макромолекули върху твърда подло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cc00"/>
                </a:solidFill>
                <a:latin typeface="Arial"/>
              </a:rPr>
              <a:t>Биофизично изследване на алвеоларен сърфа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2800" spc="-1" strike="noStrike">
                <a:solidFill>
                  <a:srgbClr val="ffcc00"/>
                </a:solidFill>
                <a:latin typeface="Arial"/>
              </a:rPr>
              <a:t>Моделни мембранни системи и взаимодействие с полипепт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27280" y="189000"/>
            <a:ext cx="388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ематиката дне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172f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"/>
              </a:rPr>
              <a:t>Електрохимични изследвания на моделни мембранни сист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"/>
              </a:rPr>
              <a:t>Е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"/>
              </a:rPr>
              <a:t>Радиационна биоф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"/>
              </a:rPr>
              <a:t>Импедансна томогра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"/>
              </a:rPr>
              <a:t>Обработка на изображения при импедансна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g-BG" sz="3200" spc="-1" strike="noStrike">
                <a:solidFill>
                  <a:srgbClr val="ffcc00"/>
                </a:solidFill>
                <a:latin typeface="Arial"/>
              </a:rPr>
              <a:t>Оксидативен стрес при пат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95640" y="189000"/>
            <a:ext cx="4680000" cy="13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ъдещи изслед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13:17:01Z</dcterms:created>
  <dc:creator>Lili</dc:creator>
  <dc:description/>
  <dc:language>en-US</dc:language>
  <cp:lastModifiedBy>Lili</cp:lastModifiedBy>
  <dcterms:modified xsi:type="dcterms:W3CDTF">2013-11-14T13:51:32Z</dcterms:modified>
  <cp:revision>4</cp:revision>
  <dc:subject/>
  <dc:title>Slide 1</dc:title>
</cp:coreProperties>
</file>