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208C-733D-4ABE-A793-93B18DE85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FE85-65BF-47A4-A2ED-11B3C9BE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D9479C-60E4-4EBF-A55A-DC101306700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B636B0-0165-4910-BC66-FB450818B9A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8E2BFA-1FCF-450D-B463-83CFE173897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F70083-FC94-4043-8237-A7D712972DB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C9F57D-AC85-4146-B4F6-05F37F5BADD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A90387-4812-4E3C-9AF5-1AF32A3D4B5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6A11BD-D6B0-42BA-93E7-200FF8D0B02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43CEF4-ADF7-4EF1-A82F-E230D8AC475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DA8042-4F85-4137-BD1B-1B6D48F8C69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8BE3E2-96CE-41FD-88B1-154D4BAFE5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E532-422C-46DC-A7F9-A768EB157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53CC7F-0664-4A87-8A78-FDBB6AAE897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7A2BE3-0A0A-443B-8A43-398544A1061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8F974E-10E9-4D42-B68D-94216A668D7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1F67DB-A043-41E6-9921-FEF89F5A656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BF400F-D6A1-438B-B615-7CAC07A9838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A8E0B2-57E7-4504-A337-B93B4FFA76F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FAEA9C-A97E-4F01-9809-B18DC03CA3B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B2866E-D3FB-45B2-8B9E-8D9F08CF942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3FD43F-632B-4343-BE3C-15B23F56E53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C006F9-868C-46AC-9292-C9AC59014C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8B15-ED08-498D-893B-EBBC2DD20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47A368-3EC7-485E-BA07-9AEF5B2BBE2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88EE27-B90F-4265-8613-D10F7B64F90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B923D8-563F-451B-97D3-F701C99813B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01A50-6818-4FD3-A7BA-18726677652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FCB34-5DCF-4C22-8364-285D2B59DF1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AC88C4-E26B-410C-8852-AB8B65A3266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1687D6-D366-4698-ADAB-DC368C97321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20E24-A7B9-4881-A76D-2F091B35573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BBAB63-92F2-4B6A-85BC-32A29CDBC5A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8CE0A7-0D4F-491F-A770-60C55BEFA3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DF5B-53F2-4E79-BF87-51A6FB05B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A1AEC2-0DA1-467D-8E29-2071DF2E9CF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81E38F-8BFA-41B8-ADB4-347335304F3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4DC000-A635-43DA-8521-297E91CC232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3466EC-CB11-4FA6-BAEF-D985D3BB887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B3DB00-4A4A-40B8-831F-308525856BD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721534-7E7E-4E02-A61F-774A5E74F38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9A6772-A138-46BA-A728-C7E663A0AA8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E79722-1A09-4CB5-8B1E-A8D7C025523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3F7175-E650-4918-B940-3A5069A0EE7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A46D7C-D21B-4C5C-8E1F-A7ED327F4C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2105-7052-4143-B3A2-C702D5FB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DC8BFDB-29B3-44E7-AF9D-CC36D4D5B7D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D00CBA6-85AC-42A3-8781-E35D77459BE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B43173-CD11-4FC6-BBD9-0BB336BCB93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E0C78C-34C4-424B-8A3B-038234D0EF8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087553-D4CF-43A3-B1BA-ADFEC0F4960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AFEF675-261E-44D7-9B6B-994A79E8EF6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1C0BC00-B269-4BA4-A1AC-263E2257671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28FEDEE-96A0-4A80-8B7D-15D00263B43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F116EE5-82F7-4259-9257-526B4683997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D456D46-B0C6-4640-BB27-46F39156C6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E89F4-D2BB-4E27-9365-983AAD1C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8044F60-1A38-4670-9819-6C5207E2604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F4E7AD5-4BAE-4607-AC29-DF88CF73B2F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5487F6F-9A08-4C2F-A219-862955F7356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7BA577D-E44C-417A-9049-9C5A5572D60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31AEE49-7F48-4330-8069-908391B02BD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0E8CBF1-EDCB-4C14-A8FF-17FD7F44681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2C5D8DD-803F-444A-9D45-0DF6B023208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887B16-0924-4124-B541-F95FA5369A3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29881-DA56-4709-81A9-6078025FD853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E8960-430E-482C-B35D-6397F88403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060E1-6797-45A1-B1D8-7CC2A7CB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B6D62-5552-4AD4-ACC2-3E53CCEA44C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880246-99BD-4E04-B677-509FAA6A86ED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7C78FB-7E16-47F5-A9B9-4B806AC586AD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D56DF-FBFC-43E3-BBA3-AD929B23B11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DC8EF6-47E5-4BFC-8B52-A065FA8044E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9E3010-D499-47A5-901A-969CE2513B9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6A482-D7CC-409A-816C-D5A50C1BCF1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AFAD6F-C09D-4522-8A49-E839448CECA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1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2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1A22A6-61EB-44FE-832F-230E2D510F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170E-41FE-48B9-AEDF-61BDA9C4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585E-8506-44EF-8E32-6EFCB2AD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FB1AF-F5F3-4073-A250-93312E62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768A-0BC1-45F0-A2B7-33E7AC40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B66A-5351-4050-93E5-EFFC800E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44D12-43B9-4C2D-9112-A1E92FBC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27525-4FAD-4937-8EEC-BB0CD5F1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48E3-1E4B-4F51-A214-78F1D6698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0E52-1E44-457A-9683-6D60FD7B1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A7F983-B32D-403D-9946-AC0B9BCFA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D610F9-B6A4-4471-9409-CB3345085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A64DB5-89DA-401E-B314-30722185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FB2A08-DF64-4E4E-8A8B-1C4A6097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D2414E-78BE-420A-A1FF-76331DFB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9D68-C6A4-4C9F-AA4B-1AE376E0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DA2EE2-6B17-4ECF-8037-B2F0886B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8ACE21-DD7A-483B-9D5F-8C697215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941809-D764-432A-B6C7-54C7E1DB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4B0183-3AF7-4351-BFDD-3AE7DA5B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F67399-0DD9-487C-961B-E0DDBF28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D81A83-D5DA-4857-8512-5C05219D1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4E668F-0FD3-495C-9326-9CB9C9938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81EC94-1218-4607-B7B6-06F4161524C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D905AF-BF5D-49F8-85C6-8E1D3278AEB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C8F9BB-28C6-4550-93D3-4103835531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7D19-4E42-4DE3-91D7-A50F9385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818496-D643-4A8E-B038-E6E4B7A1080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833223-C4A1-4E24-90CB-BF0E1C30BD6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901201-D20C-48EF-966A-2E059E12A15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280842-5117-44B8-9B1C-C4A95C5E612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AE9FC9-9DA3-4E2E-8344-6F27765438A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110F1E-6448-4908-A026-B062D01BE99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18ABA4-8B6F-4D97-9FBF-A5EE4EAACE4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3C4825-8562-42A5-8F4E-5A53D6E1479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240045-BE1B-4AB2-A802-A79B1AC0038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D0AA83-DC84-464F-9314-EC3787EFB9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A62C-2A9E-446B-B7BA-02EC9348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66E39B-6A01-4D53-86C5-51AA92F36AD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F588F4-EE1E-47F5-B38D-C7DE4419207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A574AF-4F73-4990-9D17-2A775DE7CFA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C586A1-5E3A-4C67-B040-5E14653F455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62CB20-4B17-4B61-A9FA-9373674BB82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3A3D1B-DE9B-4B40-A3C5-3F6EBA7F310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07A4C3-9B66-4C59-8530-E8E4B0DEC03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04D01E-2C55-4B3E-8F0F-D0F23CB7CF0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38054F-2E79-48B1-BB45-F612AE600AA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760634-FD6D-4239-807B-DF206B233C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AC0A-A373-491A-8F8E-3DED44B50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0FF647-94F3-490F-87D4-1AEB9CB26CF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2E445-D781-46F6-8988-C087E157E56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81187-BDA6-4EB8-A8C0-2450C01C686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EBB36-73A8-4FFA-AC30-BD195667DA7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1FA3D-4A74-4ECD-85B9-931AB15D72B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14F22-146F-4756-9263-7D345AAC03D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84241-22B6-4307-928E-4C149813428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7BBD3-8124-42DC-A1CA-49B3FDF0E7F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59B1F-B7EC-4933-A792-5F7AEF0354F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CA7D3-C204-4A55-ACF3-B1EB7C21FF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294F-0DBA-43CC-BB73-35808070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216BB-60FE-429E-A302-ECEA1EF0660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A00E7-EF81-41A9-8226-C7BC6774403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31B4F-1C9A-417F-9420-FD4D3722E14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EDE466-90DA-4B2A-8BDF-1D30D70DD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E42B61-BAED-45C0-BF17-DD5D398F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47D270-A070-49AA-A8FF-285F1512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93DC7E-AAFF-4235-9A8D-6EBE5C4E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065121-1892-43F4-918F-BE7AB1EB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06A533-258B-478A-AF08-7340565C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424236-904A-4033-A92E-45D616D8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1529-6B5F-442E-A22B-6EA0B892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8F9BC7-0EF4-4CE7-9D4D-2830F6DF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A964C7-2CF7-4472-8634-E76B88CA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ABFEA8-BCB1-40AF-9E9B-AF375504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AF4832-1990-44DB-A6E9-25A1F2876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E6E805-47FB-45B6-8816-07CB5C720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B92FE7-D9B3-4017-8863-13CBECCA4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3E96EA-AC0C-419A-A467-145FC1DF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E02E98-E6EF-4E4F-B03C-7C19A7B48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B99954-5710-4101-9D5B-92AB73E4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5A56E4-B186-4C0E-9429-8F66472F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8BBD-8BFF-4C1F-8596-DE8FB254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4EB123-5BAE-477A-ACBA-FA2B7D41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B2A60D-87D5-4001-AFBF-8BDE1FCB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D81A0B-78C1-497A-B022-FA8B30DE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D1F3A9-B02C-4D94-B008-A55E8310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0F165D-22B5-4C77-AC65-2E4B2148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33CA85-01F2-4BD0-8711-BE632EFD8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B33EFD-5A9A-4025-8A57-638D646C3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F23E34-631A-4A1F-B5B3-057B16B9776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B4074D-9261-4B6A-AC3D-65E9CD16209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15B949-2C6A-47C4-BC65-DADFA2CFA7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1" name="Group 15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2" name="Rectangle 7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" name="Rectangle 8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Rectangle 9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Rectangle 10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Rectangle 11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Rectangle 12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Rectangle 13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Arc 14"/>
              <p:cNvSpPr/>
              <p:nvPr/>
            </p:nvSpPr>
            <p:spPr>
              <a:xfrm>
                <a:off x="752400" y="3587760"/>
                <a:ext cx="198360" cy="1832040"/>
              </a:xfrm>
              <a:custGeom>
                <a:avLst/>
                <a:gdLst/>
                <a:ahLst/>
                <a:rect l="l" t="t" r="r" b="b"/>
                <a:pathLst>
                  <a:path fill="none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</a:path>
                  <a:path stroke="0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  <a:lnTo>
                      <a:pt x="754" y="2160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0" name="Oval 16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Rectangle 17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354e"/>
                </a:gs>
                <a:gs pos="100000">
                  <a:srgbClr val="00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" name="Rectangle 20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7884720" y="6400800"/>
            <a:ext cx="12589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eaeaea"/>
                </a:solidFill>
                <a:latin typeface="Times New Roman"/>
              </a:rPr>
              <a:t>26.11.2013 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-360" y="6400800"/>
            <a:ext cx="75564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349A-81DF-428E-8238-FE940ED6346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Rectangle 19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9" name="Picture 21" descr="LOGO"/>
          <p:cNvPicPr/>
          <p:nvPr/>
        </p:nvPicPr>
        <p:blipFill>
          <a:blip r:embed="rId3"/>
          <a:stretch/>
        </p:blipFill>
        <p:spPr>
          <a:xfrm>
            <a:off x="250920" y="260280"/>
            <a:ext cx="977760" cy="98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1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499" name="Group 15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500" name="Rectangle 7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1" name="Rectangle 8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2" name="Rectangle 9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3" name="Rectangle 10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4" name="Rectangle 11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5" name="Rectangle 12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6" name="Rectangle 13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07" name="Arc 14"/>
              <p:cNvSpPr/>
              <p:nvPr/>
            </p:nvSpPr>
            <p:spPr>
              <a:xfrm>
                <a:off x="752400" y="3587760"/>
                <a:ext cx="198360" cy="1832040"/>
              </a:xfrm>
              <a:custGeom>
                <a:avLst/>
                <a:gdLst/>
                <a:ahLst/>
                <a:rect l="l" t="t" r="r" b="b"/>
                <a:pathLst>
                  <a:path fill="none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</a:path>
                  <a:path stroke="0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  <a:lnTo>
                      <a:pt x="754" y="2160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508" name="Oval 16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09" name="Rectangle 17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354e"/>
                </a:gs>
                <a:gs pos="100000">
                  <a:srgbClr val="00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510" name="Rectangle 20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1" name="Rectangle 19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12" name="Picture 21" descr="LOGO"/>
          <p:cNvPicPr/>
          <p:nvPr/>
        </p:nvPicPr>
        <p:blipFill>
          <a:blip r:embed="rId3"/>
          <a:stretch/>
        </p:blipFill>
        <p:spPr>
          <a:xfrm>
            <a:off x="250920" y="260280"/>
            <a:ext cx="977760" cy="98604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ftr" idx="24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sldNum" idx="25"/>
          </p:nvPr>
        </p:nvSpPr>
        <p:spPr>
          <a:xfrm>
            <a:off x="-360" y="6400800"/>
            <a:ext cx="75564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89FC-9CE8-4698-8A06-ACD05BFA4B9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Group 1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554" name="Group 15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555" name="Rectangle 7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56" name="Rectangle 8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57" name="Rectangle 9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58" name="Rectangle 10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59" name="Rectangle 11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60" name="Rectangle 12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61" name="Rectangle 13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62" name="Arc 14"/>
              <p:cNvSpPr/>
              <p:nvPr/>
            </p:nvSpPr>
            <p:spPr>
              <a:xfrm>
                <a:off x="752400" y="3587760"/>
                <a:ext cx="198360" cy="1832040"/>
              </a:xfrm>
              <a:custGeom>
                <a:avLst/>
                <a:gdLst/>
                <a:ahLst/>
                <a:rect l="l" t="t" r="r" b="b"/>
                <a:pathLst>
                  <a:path fill="none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</a:path>
                  <a:path stroke="0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  <a:lnTo>
                      <a:pt x="754" y="2160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563" name="Oval 16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64" name="Rectangle 17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354e"/>
                </a:gs>
                <a:gs pos="100000">
                  <a:srgbClr val="00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565" name="Rectangle 20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6" name="Rectangle 19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67" name="Picture 21" descr="LOGO"/>
          <p:cNvPicPr/>
          <p:nvPr/>
        </p:nvPicPr>
        <p:blipFill>
          <a:blip r:embed="rId3"/>
          <a:stretch/>
        </p:blipFill>
        <p:spPr>
          <a:xfrm>
            <a:off x="250920" y="260280"/>
            <a:ext cx="977760" cy="98604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ftr" idx="26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sldNum" idx="27"/>
          </p:nvPr>
        </p:nvSpPr>
        <p:spPr>
          <a:xfrm>
            <a:off x="-360" y="6400800"/>
            <a:ext cx="75564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FFA5-0DFD-40C1-89F3-055271B8B77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1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609" name="Group 15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610" name="Rectangle 7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1" name="Rectangle 8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2" name="Rectangle 9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3" name="Rectangle 10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4" name="Rectangle 11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5" name="Rectangle 12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6" name="Rectangle 13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7" name="Arc 14"/>
              <p:cNvSpPr/>
              <p:nvPr/>
            </p:nvSpPr>
            <p:spPr>
              <a:xfrm>
                <a:off x="752400" y="3587760"/>
                <a:ext cx="198360" cy="1832040"/>
              </a:xfrm>
              <a:custGeom>
                <a:avLst/>
                <a:gdLst/>
                <a:ahLst/>
                <a:rect l="l" t="t" r="r" b="b"/>
                <a:pathLst>
                  <a:path fill="none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</a:path>
                  <a:path stroke="0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  <a:lnTo>
                      <a:pt x="754" y="2160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18" name="Oval 16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9" name="Rectangle 17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354e"/>
                </a:gs>
                <a:gs pos="100000">
                  <a:srgbClr val="00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20" name="Rectangle 20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1" name="Rectangle 19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22" name="Picture 21" descr="LOGO"/>
          <p:cNvPicPr/>
          <p:nvPr/>
        </p:nvPicPr>
        <p:blipFill>
          <a:blip r:embed="rId3"/>
          <a:stretch/>
        </p:blipFill>
        <p:spPr>
          <a:xfrm>
            <a:off x="250920" y="260280"/>
            <a:ext cx="977760" cy="986040"/>
          </a:xfrm>
          <a:prstGeom prst="rect">
            <a:avLst/>
          </a:prstGeom>
          <a:ln w="0">
            <a:noFill/>
          </a:ln>
        </p:spPr>
      </p:pic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ftr" idx="28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sldNum" idx="29"/>
          </p:nvPr>
        </p:nvSpPr>
        <p:spPr>
          <a:xfrm>
            <a:off x="-360" y="6400800"/>
            <a:ext cx="75564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DE97-9346-462C-9E6A-2C9BB7AC8AF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3" name="Group 1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664" name="Group 15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665" name="Rectangle 7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6" name="Rectangle 8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7" name="Rectangle 9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8" name="Rectangle 10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69" name="Rectangle 11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0" name="Rectangle 12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1" name="Rectangle 13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72" name="Arc 14"/>
              <p:cNvSpPr/>
              <p:nvPr/>
            </p:nvSpPr>
            <p:spPr>
              <a:xfrm>
                <a:off x="752400" y="3587760"/>
                <a:ext cx="198360" cy="1832040"/>
              </a:xfrm>
              <a:custGeom>
                <a:avLst/>
                <a:gdLst/>
                <a:ahLst/>
                <a:rect l="l" t="t" r="r" b="b"/>
                <a:pathLst>
                  <a:path fill="none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</a:path>
                  <a:path stroke="0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  <a:lnTo>
                      <a:pt x="754" y="2160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73" name="Oval 16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4" name="Rectangle 17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354e"/>
                </a:gs>
                <a:gs pos="100000">
                  <a:srgbClr val="00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75" name="Rectangle 20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6" name="Rectangle 19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77" name="Picture 21" descr="LOGO"/>
          <p:cNvPicPr/>
          <p:nvPr/>
        </p:nvPicPr>
        <p:blipFill>
          <a:blip r:embed="rId3"/>
          <a:stretch/>
        </p:blipFill>
        <p:spPr>
          <a:xfrm>
            <a:off x="250920" y="260280"/>
            <a:ext cx="977760" cy="986040"/>
          </a:xfrm>
          <a:prstGeom prst="rect">
            <a:avLst/>
          </a:prstGeom>
          <a:ln w="0">
            <a:noFill/>
          </a:ln>
        </p:spPr>
      </p:pic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ftr" idx="30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sldNum" idx="31"/>
          </p:nvPr>
        </p:nvSpPr>
        <p:spPr>
          <a:xfrm>
            <a:off x="-360" y="6400800"/>
            <a:ext cx="75564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CD5B-7617-4E94-8777-5C5E8FBC045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8" name="Group 1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19" name="Group 15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720" name="Rectangle 7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1" name="Rectangle 8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2" name="Rectangle 9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3" name="Rectangle 10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4" name="Rectangle 11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5" name="Rectangle 12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6" name="Rectangle 13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27" name="Arc 14"/>
              <p:cNvSpPr/>
              <p:nvPr/>
            </p:nvSpPr>
            <p:spPr>
              <a:xfrm>
                <a:off x="752400" y="3587760"/>
                <a:ext cx="198360" cy="1832040"/>
              </a:xfrm>
              <a:custGeom>
                <a:avLst/>
                <a:gdLst/>
                <a:ahLst/>
                <a:rect l="l" t="t" r="r" b="b"/>
                <a:pathLst>
                  <a:path fill="none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</a:path>
                  <a:path stroke="0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  <a:lnTo>
                      <a:pt x="754" y="2160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728" name="Oval 16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9" name="Rectangle 17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354e"/>
                </a:gs>
                <a:gs pos="100000">
                  <a:srgbClr val="00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0" name="Rectangle 20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1" name="Rectangle 19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732" name="Picture 21" descr="LOGO"/>
          <p:cNvPicPr/>
          <p:nvPr/>
        </p:nvPicPr>
        <p:blipFill>
          <a:blip r:embed="rId3"/>
          <a:stretch/>
        </p:blipFill>
        <p:spPr>
          <a:xfrm>
            <a:off x="250920" y="260280"/>
            <a:ext cx="977760" cy="986040"/>
          </a:xfrm>
          <a:prstGeom prst="rect">
            <a:avLst/>
          </a:prstGeom>
          <a:ln w="0">
            <a:noFill/>
          </a:ln>
        </p:spPr>
      </p:pic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ftr" idx="3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sldNum" idx="33"/>
          </p:nvPr>
        </p:nvSpPr>
        <p:spPr>
          <a:xfrm>
            <a:off x="-360" y="6400800"/>
            <a:ext cx="75564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0A18-E25A-4DDC-8241-7F3A620C418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14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7" name="Group 12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58" name="Group 10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59" name="AutoShape 2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0" name="AutoShape 3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4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2" name="Oval 5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3" name="Rectangle 6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4" name="Rectangle 7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5" name="Arc 8"/>
                <p:cNvSpPr/>
                <p:nvPr/>
              </p:nvSpPr>
              <p:spPr>
                <a:xfrm rot="10485000">
                  <a:off x="2004120" y="3555360"/>
                  <a:ext cx="1148040" cy="1359000"/>
                </a:xfrm>
                <a:custGeom>
                  <a:avLst/>
                  <a:gdLst/>
                  <a:ahLst/>
                  <a:rect l="l" t="t" r="r" b="b"/>
                  <a:pathLst>
                    <a:path fill="none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</a:path>
                    <a:path stroke="0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  <a:lnTo>
                        <a:pt x="21518" y="2258"/>
                      </a:lnTo>
                      <a:lnTo>
                        <a:pt x="-22537" y="0"/>
                      </a:lnTo>
                      <a:close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6" name="Freeform 9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" name="Freeform 11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8" name="Rectangle 13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dt" idx="5"/>
          </p:nvPr>
        </p:nvSpPr>
        <p:spPr>
          <a:xfrm>
            <a:off x="7884720" y="6400800"/>
            <a:ext cx="12589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eaeaea"/>
                </a:solidFill>
                <a:latin typeface="Times New Roman"/>
              </a:rPr>
              <a:t>26.11.2013 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-360" y="6400800"/>
            <a:ext cx="75564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F22D-D794-48C6-B644-8C8B2EB50C9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111" name="Group 15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112" name="Rectangle 7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Rectangle 8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Rectangle 9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Rectangle 10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Rectangle 11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Rectangle 12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Rectangle 13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Arc 14"/>
              <p:cNvSpPr/>
              <p:nvPr/>
            </p:nvSpPr>
            <p:spPr>
              <a:xfrm>
                <a:off x="752400" y="3587760"/>
                <a:ext cx="198360" cy="1832040"/>
              </a:xfrm>
              <a:custGeom>
                <a:avLst/>
                <a:gdLst/>
                <a:ahLst/>
                <a:rect l="l" t="t" r="r" b="b"/>
                <a:pathLst>
                  <a:path fill="none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</a:path>
                  <a:path stroke="0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  <a:lnTo>
                      <a:pt x="754" y="2160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20" name="Oval 16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" name="Rectangle 17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354e"/>
                </a:gs>
                <a:gs pos="100000">
                  <a:srgbClr val="00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2" name="Rectangle 20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Rectangle 19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4" name="Picture 21" descr="LOGO"/>
          <p:cNvPicPr/>
          <p:nvPr/>
        </p:nvPicPr>
        <p:blipFill>
          <a:blip r:embed="rId3"/>
          <a:stretch/>
        </p:blipFill>
        <p:spPr>
          <a:xfrm>
            <a:off x="250920" y="260280"/>
            <a:ext cx="977760" cy="986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7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8"/>
          </p:nvPr>
        </p:nvSpPr>
        <p:spPr>
          <a:xfrm>
            <a:off x="-360" y="6400800"/>
            <a:ext cx="75564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0417-FF68-4D66-B852-7EF22ABD3E7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dt" idx="9"/>
          </p:nvPr>
        </p:nvSpPr>
        <p:spPr>
          <a:xfrm>
            <a:off x="7884720" y="6400800"/>
            <a:ext cx="12589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eaeaea"/>
                </a:solidFill>
                <a:latin typeface="Times New Roman"/>
              </a:rPr>
              <a:t>26.11.2013 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1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167" name="Group 15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168" name="Rectangle 7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Rectangle 8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Rectangle 9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Rectangle 10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" name="Rectangle 11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3" name="Rectangle 12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4" name="Rectangle 13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5" name="Arc 14"/>
              <p:cNvSpPr/>
              <p:nvPr/>
            </p:nvSpPr>
            <p:spPr>
              <a:xfrm>
                <a:off x="752400" y="3587760"/>
                <a:ext cx="198360" cy="1832040"/>
              </a:xfrm>
              <a:custGeom>
                <a:avLst/>
                <a:gdLst/>
                <a:ahLst/>
                <a:rect l="l" t="t" r="r" b="b"/>
                <a:pathLst>
                  <a:path fill="none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</a:path>
                  <a:path stroke="0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  <a:lnTo>
                      <a:pt x="754" y="2160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76" name="Oval 16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7" name="Rectangle 17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354e"/>
                </a:gs>
                <a:gs pos="100000">
                  <a:srgbClr val="00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78" name="Rectangle 20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0" name="Picture 21" descr="LOGO"/>
          <p:cNvPicPr/>
          <p:nvPr/>
        </p:nvPicPr>
        <p:blipFill>
          <a:blip r:embed="rId3"/>
          <a:stretch/>
        </p:blipFill>
        <p:spPr>
          <a:xfrm>
            <a:off x="250920" y="260280"/>
            <a:ext cx="977760" cy="9860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ftr" idx="10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sldNum" idx="11"/>
          </p:nvPr>
        </p:nvSpPr>
        <p:spPr>
          <a:xfrm>
            <a:off x="-360" y="6400800"/>
            <a:ext cx="75564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A191-B10B-45C6-B626-1384CC3504E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1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222" name="Group 15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223" name="Rectangle 7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4" name="Rectangle 8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5" name="Rectangle 9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6" name="Rectangle 10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7" name="Rectangle 11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8" name="Rectangle 12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9" name="Rectangle 13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0" name="Arc 14"/>
              <p:cNvSpPr/>
              <p:nvPr/>
            </p:nvSpPr>
            <p:spPr>
              <a:xfrm>
                <a:off x="752400" y="3587760"/>
                <a:ext cx="198360" cy="1832040"/>
              </a:xfrm>
              <a:custGeom>
                <a:avLst/>
                <a:gdLst/>
                <a:ahLst/>
                <a:rect l="l" t="t" r="r" b="b"/>
                <a:pathLst>
                  <a:path fill="none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</a:path>
                  <a:path stroke="0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  <a:lnTo>
                      <a:pt x="754" y="2160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31" name="Oval 16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32" name="Rectangle 17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354e"/>
                </a:gs>
                <a:gs pos="100000">
                  <a:srgbClr val="00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33" name="Rectangle 20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Rectangle 19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5" name="Picture 21" descr="LOGO"/>
          <p:cNvPicPr/>
          <p:nvPr/>
        </p:nvPicPr>
        <p:blipFill>
          <a:blip r:embed="rId3"/>
          <a:stretch/>
        </p:blipFill>
        <p:spPr>
          <a:xfrm>
            <a:off x="250920" y="260280"/>
            <a:ext cx="977760" cy="98604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ftr" idx="1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sldNum" idx="13"/>
          </p:nvPr>
        </p:nvSpPr>
        <p:spPr>
          <a:xfrm>
            <a:off x="-360" y="6400800"/>
            <a:ext cx="75564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C7E9-8885-4A00-ACA4-762841A3B25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1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277" name="Group 15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278" name="Rectangle 7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9" name="Rectangle 8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0" name="Rectangle 9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1" name="Rectangle 10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2" name="Rectangle 11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3" name="Rectangle 12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4" name="Rectangle 13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5" name="Arc 14"/>
              <p:cNvSpPr/>
              <p:nvPr/>
            </p:nvSpPr>
            <p:spPr>
              <a:xfrm>
                <a:off x="752400" y="3587760"/>
                <a:ext cx="198360" cy="1832040"/>
              </a:xfrm>
              <a:custGeom>
                <a:avLst/>
                <a:gdLst/>
                <a:ahLst/>
                <a:rect l="l" t="t" r="r" b="b"/>
                <a:pathLst>
                  <a:path fill="none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</a:path>
                  <a:path stroke="0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  <a:lnTo>
                      <a:pt x="754" y="2160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86" name="Oval 16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7" name="Rectangle 17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354e"/>
                </a:gs>
                <a:gs pos="100000">
                  <a:srgbClr val="00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88" name="Rectangle 20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Rectangle 19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90" name="Picture 21" descr="LOGO"/>
          <p:cNvPicPr/>
          <p:nvPr/>
        </p:nvPicPr>
        <p:blipFill>
          <a:blip r:embed="rId3"/>
          <a:stretch/>
        </p:blipFill>
        <p:spPr>
          <a:xfrm>
            <a:off x="250920" y="260280"/>
            <a:ext cx="977760" cy="98604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ftr" idx="14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sldNum" idx="15"/>
          </p:nvPr>
        </p:nvSpPr>
        <p:spPr>
          <a:xfrm>
            <a:off x="-360" y="6400800"/>
            <a:ext cx="75564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1BE8-343E-45A3-8178-41131BF1DD0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1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332" name="Group 15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333" name="Rectangle 7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4" name="Rectangle 8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5" name="Rectangle 9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6" name="Rectangle 10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7" name="Rectangle 11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8" name="Rectangle 12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39" name="Rectangle 13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40" name="Arc 14"/>
              <p:cNvSpPr/>
              <p:nvPr/>
            </p:nvSpPr>
            <p:spPr>
              <a:xfrm>
                <a:off x="752400" y="3587760"/>
                <a:ext cx="198360" cy="1832040"/>
              </a:xfrm>
              <a:custGeom>
                <a:avLst/>
                <a:gdLst/>
                <a:ahLst/>
                <a:rect l="l" t="t" r="r" b="b"/>
                <a:pathLst>
                  <a:path fill="none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</a:path>
                  <a:path stroke="0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  <a:lnTo>
                      <a:pt x="754" y="2160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41" name="Oval 16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2" name="Rectangle 17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354e"/>
                </a:gs>
                <a:gs pos="100000">
                  <a:srgbClr val="00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43" name="Rectangle 20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4" name="Rectangle 19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45" name="Picture 21" descr="LOGO"/>
          <p:cNvPicPr/>
          <p:nvPr/>
        </p:nvPicPr>
        <p:blipFill>
          <a:blip r:embed="rId3"/>
          <a:stretch/>
        </p:blipFill>
        <p:spPr>
          <a:xfrm>
            <a:off x="250920" y="260280"/>
            <a:ext cx="977760" cy="98604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ftr" idx="16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17"/>
          </p:nvPr>
        </p:nvSpPr>
        <p:spPr>
          <a:xfrm>
            <a:off x="-360" y="6400800"/>
            <a:ext cx="75564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52DF-6F0D-4C87-98E5-66595ED1730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dt" idx="18"/>
          </p:nvPr>
        </p:nvSpPr>
        <p:spPr>
          <a:xfrm>
            <a:off x="7884720" y="6400800"/>
            <a:ext cx="12589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eaeaea"/>
                </a:solidFill>
                <a:latin typeface="Times New Roman"/>
              </a:rPr>
              <a:t>26.11.2013 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1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388" name="Group 15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389" name="Rectangle 7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90" name="Rectangle 8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91" name="Rectangle 9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92" name="Rectangle 10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93" name="Rectangle 11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94" name="Rectangle 12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95" name="Rectangle 13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396" name="Arc 14"/>
              <p:cNvSpPr/>
              <p:nvPr/>
            </p:nvSpPr>
            <p:spPr>
              <a:xfrm>
                <a:off x="752400" y="3587760"/>
                <a:ext cx="198360" cy="1832040"/>
              </a:xfrm>
              <a:custGeom>
                <a:avLst/>
                <a:gdLst/>
                <a:ahLst/>
                <a:rect l="l" t="t" r="r" b="b"/>
                <a:pathLst>
                  <a:path fill="none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</a:path>
                  <a:path stroke="0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  <a:lnTo>
                      <a:pt x="754" y="2160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397" name="Oval 16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8" name="Rectangle 17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354e"/>
                </a:gs>
                <a:gs pos="100000">
                  <a:srgbClr val="00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99" name="Rectangle 20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0" name="Rectangle 19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01" name="Picture 21" descr="LOGO"/>
          <p:cNvPicPr/>
          <p:nvPr/>
        </p:nvPicPr>
        <p:blipFill>
          <a:blip r:embed="rId3"/>
          <a:stretch/>
        </p:blipFill>
        <p:spPr>
          <a:xfrm>
            <a:off x="250920" y="260280"/>
            <a:ext cx="977760" cy="98604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ftr" idx="19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sldNum" idx="20"/>
          </p:nvPr>
        </p:nvSpPr>
        <p:spPr>
          <a:xfrm>
            <a:off x="-360" y="6400800"/>
            <a:ext cx="75564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2026-DEF9-4136-BDB8-0439D2032A3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dt" idx="21"/>
          </p:nvPr>
        </p:nvSpPr>
        <p:spPr>
          <a:xfrm>
            <a:off x="7884720" y="6400800"/>
            <a:ext cx="12589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eaeaea"/>
                </a:solidFill>
                <a:latin typeface="Times New Roman"/>
              </a:rPr>
              <a:t>26.11.2013 </a:t>
            </a: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Group 1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444" name="Group 15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445" name="Rectangle 7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6" name="Rectangle 8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7" name="Rectangle 9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8" name="Rectangle 10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49" name="Rectangle 11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50" name="Rectangle 12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51" name="Rectangle 13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52" name="Arc 14"/>
              <p:cNvSpPr/>
              <p:nvPr/>
            </p:nvSpPr>
            <p:spPr>
              <a:xfrm>
                <a:off x="752400" y="3587760"/>
                <a:ext cx="198360" cy="1832040"/>
              </a:xfrm>
              <a:custGeom>
                <a:avLst/>
                <a:gdLst/>
                <a:ahLst/>
                <a:rect l="l" t="t" r="r" b="b"/>
                <a:pathLst>
                  <a:path fill="none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</a:path>
                  <a:path stroke="0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  <a:lnTo>
                      <a:pt x="754" y="2160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453" name="Oval 16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4" name="Rectangle 17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354e"/>
                </a:gs>
                <a:gs pos="100000">
                  <a:srgbClr val="00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55" name="Rectangle 20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6" name="Rectangle 19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57" name="Picture 21" descr="LOGO"/>
          <p:cNvPicPr/>
          <p:nvPr/>
        </p:nvPicPr>
        <p:blipFill>
          <a:blip r:embed="rId3"/>
          <a:stretch/>
        </p:blipFill>
        <p:spPr>
          <a:xfrm>
            <a:off x="250920" y="260280"/>
            <a:ext cx="977760" cy="98604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ftr" idx="2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sldNum" idx="23"/>
          </p:nvPr>
        </p:nvSpPr>
        <p:spPr>
          <a:xfrm>
            <a:off x="-360" y="6400800"/>
            <a:ext cx="75564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4087-CD13-48DB-AD28-2DDADDBF077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Slide Number Placeholder 4"/>
          <p:cNvSpPr/>
          <p:nvPr/>
        </p:nvSpPr>
        <p:spPr>
          <a:xfrm>
            <a:off x="0" y="6400800"/>
            <a:ext cx="755640" cy="457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E3B5-FD6C-4A17-8417-1C8956762D8B}" type="slidenum">
              <a:rPr b="0" lang="en-US" sz="14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99ff33"/>
                </a:solidFill>
                <a:latin typeface="Arial Black"/>
              </a:rPr>
              <a:t>Научна продукция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75" name="Text Box 4"/>
          <p:cNvSpPr/>
          <p:nvPr/>
        </p:nvSpPr>
        <p:spPr>
          <a:xfrm>
            <a:off x="900000" y="1557360"/>
            <a:ext cx="8244000" cy="34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bg-BG" sz="2400" spc="-1" strike="noStrike">
                <a:solidFill>
                  <a:srgbClr val="eaeaea"/>
                </a:solidFill>
                <a:latin typeface="Times New Roman"/>
              </a:rPr>
              <a:t>За последните 5 години (2001-05 г.) сме публикували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bg-BG" sz="2400" spc="-1" strike="noStrike">
                <a:solidFill>
                  <a:srgbClr val="eaeaea"/>
                </a:solidFill>
                <a:latin typeface="Times New Roman"/>
              </a:rPr>
              <a:t>179 статии в списания (162 в чужбина и 17 в България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bg-BG" sz="2400" spc="-1" strike="noStrike">
                <a:solidFill>
                  <a:srgbClr val="eaeaea"/>
                </a:solidFill>
                <a:latin typeface="Times New Roman"/>
              </a:rPr>
              <a:t>107 доклада на конференции, публикувани в списания или сборници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bg-BG" sz="2400" spc="-1" strike="noStrike">
                <a:solidFill>
                  <a:srgbClr val="eaeaea"/>
                </a:solidFill>
                <a:latin typeface="Times New Roman"/>
              </a:rPr>
              <a:t>3 монографии или части от книг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bg-BG" sz="2400" spc="-1" strike="noStrike">
                <a:solidFill>
                  <a:srgbClr val="eaeaea"/>
                </a:solidFill>
                <a:latin typeface="Times New Roman"/>
              </a:rPr>
              <a:t>Подготвени са 3 учебника (два от тях отпечатани)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bg-BG" sz="2400" spc="-1" strike="noStrike">
                <a:solidFill>
                  <a:srgbClr val="eaeaea"/>
                </a:solidFill>
                <a:latin typeface="Times New Roman"/>
              </a:rPr>
              <a:t>Изпълнявали сме 21 договора с възложители от чужбина,     НФНИ и Софийския университе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6" name="Text Box 5"/>
          <p:cNvSpPr/>
          <p:nvPr/>
        </p:nvSpPr>
        <p:spPr>
          <a:xfrm>
            <a:off x="971640" y="5084640"/>
            <a:ext cx="7345440" cy="825480"/>
          </a:xfrm>
          <a:prstGeom prst="rect">
            <a:avLst/>
          </a:prstGeom>
          <a:solidFill>
            <a:srgbClr val="00ffff"/>
          </a:solidFill>
          <a:ln cap="sq" w="414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400" spc="-1" strike="noStrike">
                <a:solidFill>
                  <a:srgbClr val="990033"/>
                </a:solidFill>
                <a:latin typeface="Comic Sans MS"/>
              </a:rPr>
              <a:t>Изключителна продукция, категорично сме на първо място във факултета!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7" name="Text Box 6"/>
          <p:cNvSpPr/>
          <p:nvPr/>
        </p:nvSpPr>
        <p:spPr>
          <a:xfrm>
            <a:off x="1192320" y="6093000"/>
            <a:ext cx="65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99ff33"/>
                </a:solidFill>
                <a:latin typeface="Times New Roman"/>
              </a:rPr>
              <a:t>Данните са от </a:t>
            </a:r>
            <a:r>
              <a:rPr b="0" i="1" lang="bg-BG" sz="1600" spc="-1" strike="noStrike">
                <a:solidFill>
                  <a:srgbClr val="99ff33"/>
                </a:solidFill>
                <a:latin typeface="Times New Roman"/>
              </a:rPr>
              <a:t>http://www.phys.uni-sofia.bg/bul/archive/akreditacia/katedri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09:14:09Z</dcterms:created>
  <dc:creator>Roumen Tsenov</dc:creator>
  <dc:description/>
  <dc:language>en-US</dc:language>
  <cp:lastModifiedBy>Roumen Tsenov</cp:lastModifiedBy>
  <dcterms:modified xsi:type="dcterms:W3CDTF">2013-11-26T09:15:00Z</dcterms:modified>
  <cp:revision>1</cp:revision>
  <dc:subject/>
  <dc:title>Научна продукция</dc:title>
</cp:coreProperties>
</file>