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355D-CA76-473F-A4BD-BB750952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C341-713A-49E4-BD00-17FC75DE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719C-59D6-4F93-AE58-9E6DEDC29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934D-7372-43E5-BE9F-6F30DE62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3DF-76D7-41B6-93FC-5ED735D2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8A26-F39F-40D6-ACDF-F602245D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207-8AD5-4199-A083-DEE86D03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62B-0B87-436F-B0DB-04B43FFC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5D2E-8F1C-4289-9BAB-6E6724E9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ABCD-AF2E-4007-9B1F-0ED4AACC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2FBD-B56B-4884-921D-6492CFCB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0E14-42EF-4DB2-8011-290C7D1A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9F47BA-6ED8-4EAE-8724-7AC4364A6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D2128-D5D8-4C10-829C-F5AAF275F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Calibri"/>
              </a:rPr>
              <a:t>Група Монте Карло (1996 - 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br>
              <a:rPr sz="3600"/>
            </a:br>
            <a:r>
              <a:rPr b="0" lang="bg-BG" sz="2400" spc="-1" strike="noStrike">
                <a:solidFill>
                  <a:srgbClr val="000000"/>
                </a:solidFill>
                <a:latin typeface="Calibri"/>
              </a:rPr>
              <a:t>изчислителна теоретична физик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cluster.phys.uni-sofia.bg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1144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Свойства на материят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 малки размери (клъстери от атоми и молекул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в ниски размерност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1D, 2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роля на обхвата на потенциалите на взаимо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bg-BG" sz="1800" spc="-1" strike="noStrike">
                <a:solidFill>
                  <a:srgbClr val="000000"/>
                </a:solidFill>
                <a:latin typeface="Calibri"/>
              </a:rPr>
              <a:t>Процеси в ниско-размерни систе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фазови преходи, предизвикани от флукту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електронен и мюонен  транспорт в ограничени сре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амоорганизация и индуцирана организац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дефект-дефектни взаимодейст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Статии (75 в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SI; 512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цитирания) (18 статии – научна политика в международни списания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Глави от книги, публикувани лекции в чужди издания – 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Финансиран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международни проект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SPS (Japan), Fulbright (USA), NATO (2), FP3, FP6 (2), FP7, COST (2), NSF (USA) (2)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iwan, 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Изследователски проекти – национално финансиране 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), университетск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Поканени лекции в Белгия, САЩ, Испания, Великобритания, Южна Корея, Япония, Германия, Румъния, Турция, Сърбия, Ита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Тех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Квантови пресмятания (ДФТ &amp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b initio</a:t>
            </a: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Симулационни техники (методи Монте Карл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Класическа молекулна дина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Квантова молекулна динам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Calibri"/>
              </a:rPr>
              <a:t>Оптимизационни задачи (генетичен алгоритъм, паралелни пресмят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000000"/>
                </a:solidFill>
                <a:latin typeface="Calibri"/>
              </a:rPr>
              <a:t>Х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л.ас. д-р Стоян Пи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-р Христо Илиев (пост-док Герман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оф. дфзн Ани Прой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ивши членове на група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-р Росен Радев (финансов сектор), д-р Данаил Василев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оф. Калина Христов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 John Hopkins)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, д-р Николай Нанков (Белгия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-р Иван Дайков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),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оц. д-р Иван Атанасов (медицинска академ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за периода 2008-2013, защи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д-р Христо Или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Магистри: Добрина Борисова, Николай Тодоровски, Трайчо Иванов, Илиян Илиев, Наталия Найден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акалаври: Николай Иринчев, Добрина Борисова, Николай Тодоровски, Никола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Бойчев, Владимир Трифонов, Десислава Дим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25560" y="4608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773600" y="3643200"/>
            <a:ext cx="40892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yson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g-BG" sz="4000" spc="-1" strike="noStrike">
                <a:solidFill>
                  <a:srgbClr val="000000"/>
                </a:solidFill>
                <a:latin typeface="Calibri"/>
              </a:rPr>
              <a:t>Стоян Писов &amp; Христо Или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14.jpg"/>
          <p:cNvPicPr/>
          <p:nvPr/>
        </p:nvPicPr>
        <p:blipFill>
          <a:blip r:embed="rId1"/>
          <a:srcRect l="-113815" t="0" r="-11381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7:38:45Z</dcterms:created>
  <dc:creator>Ana Proykova</dc:creator>
  <dc:description/>
  <dc:language>en-US</dc:language>
  <cp:lastModifiedBy>Ana Proykova</cp:lastModifiedBy>
  <dcterms:modified xsi:type="dcterms:W3CDTF">2013-11-19T18:51:28Z</dcterms:modified>
  <cp:revision>10</cp:revision>
  <dc:subject/>
  <dc:title>Група Монте Карло (1996 - )- изчислителна теоретична физика http://cluster.phys.uni-sofia.bg/</dc:title>
</cp:coreProperties>
</file>